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395-F69E-44A0-B061-968CC338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E4AB-B83F-4703-8E14-C79F7B89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CFD-80DA-4458-8A11-232D9432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59F-DA01-4367-B5E4-2602B066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AAE17-463E-46B2-98E3-B816B9EB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42B26-204D-4C60-A722-472DC449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1BB77-AC2E-422A-9DA9-5C7E770C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81133-9A0C-477F-925D-CCDED293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48A9E-EA6A-41C9-935C-69CFA0AC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462C8-6407-43B4-83FD-6B726C21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49957-3CD8-42A7-A13B-F7B6BB9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AC1-AB3F-4286-AA45-4FB1D00E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D2B63-07D4-4711-8BEA-8E2DD7A2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66A2F-02A6-41B7-9E96-3B7FA97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2CCF1-FD11-46B0-91EF-C3155364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D615B-0E6F-4863-B13A-545B3A0C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A327C-4153-4519-8660-3A0BB87F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C99-6637-4425-92C6-7916CEF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7EC-7822-4993-A366-0C6C72B3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E41-D48D-430B-AB97-BE10B65D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02E-7A46-4042-A6F1-6D91108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AF3-B900-4FAC-A804-D50C8382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A3F-E4C7-47A8-8776-25F36D05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4E3-2C87-414D-A27F-A53CDAA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9A6B-B5E1-4FC0-8394-0B4E385C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E2F8-E44D-4AE5-8678-2DF8241452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emical Dependenc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1828800" y="26668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Dependency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ug addicted or alcoholic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55120" y="62485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LER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ITHDRAW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leranc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eding more and more to get the same feeling or ‘high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ithdraw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ymptoms people feel when they can’t get the drug they’re addicted 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14600" y="24382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= Tri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= Recre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= Ab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= Pinned down (Addict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nabl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lping the drug user to 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4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6:44Z</dcterms:modified>
  <cp:revision>18</cp:revision>
  <dc:subject/>
  <dc:title>Project TND  (Project Towards No Drug Abuse)</dc:title>
</cp:coreProperties>
</file>